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A10-9A09-4B44-ADF0-D6891B66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5FD-83AE-4914-BA5B-C383E4F7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966-483F-4010-A3ED-2C43842E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508-1DBA-49EF-BC2F-1E8A9AB6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472-0398-49F5-9D62-15763647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1D3-67DF-46F2-A68D-9087C879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84F-97B4-4B61-AC5A-3E618886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025-2BC7-46F4-9D7D-6E772BDF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66D-6E6C-47FC-82B7-2918B3F4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74C-48B1-4306-82BD-B7A56479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502-619E-4787-9EE3-7B186EB8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66F-7F59-4996-8036-56A416D4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22D2-83A9-4908-977D-296F558A1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798120" y="345960"/>
            <a:ext cx="61639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66"/>
                </a:solidFill>
                <a:latin typeface="comic"/>
              </a:rPr>
              <a:t>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сус Христос възкръсна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Жив е сионский Цар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на небе възлезн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д всички Господар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ада Победител -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ва ни Той яви -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всемогъщ Спасител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верните Сво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3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57600" y="411480"/>
            <a:ext cx="5106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ебесни колесници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чакват тържество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ангели безбройни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ам пеят във едно: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"Широко отворете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ебесните врата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с радост приемете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оз славен Цар -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Христа"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719280" y="96840"/>
            <a:ext cx="618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Кой е тоз Цар на слава?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Всемогъщият Господ!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Той нам свободно дава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спасение и живот.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Най-славен Той е ратник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силен е във бра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Княз е, и Началник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между небесний ста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1051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83080" y="583200"/>
            <a:ext cx="542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За нас веднъ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тхвърле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хулен и презря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от грешни бе осъден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разпет и умъртвен!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Но в третий д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възкръсна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сионский славен Цар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и горе Той възлезна,</a:t>
            </a:r>
            <a:br>
              <a:rPr sz="3600"/>
            </a:br>
            <a:r>
              <a:rPr b="1" lang="bg-BG" sz="3600" spc="-1" strike="noStrike">
                <a:solidFill>
                  <a:srgbClr val="ffff66"/>
                </a:solidFill>
                <a:latin typeface="Monotype Corsiva"/>
              </a:rPr>
              <a:t>над всички Господа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9:32:40Z</dcterms:created>
  <dc:creator>TrifonTrifonow</dc:creator>
  <dc:description/>
  <dc:language>en-US</dc:language>
  <cp:lastModifiedBy>TrifonTrifonow</cp:lastModifiedBy>
  <dcterms:modified xsi:type="dcterms:W3CDTF">2005-11-23T20:10:38Z</dcterms:modified>
  <cp:revision>10</cp:revision>
  <dc:subject/>
  <dc:title>Slide 1</dc:title>
</cp:coreProperties>
</file>